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691813" cy="7559675"/>
  <p:notesSz cx="9831388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C08-1A89-44EA-832C-BB572136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84A-32E4-4E4F-A3BA-BCBC2330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CEC-6CC5-4161-9155-6CAF66FB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DA6-C489-45B2-900E-0957DE51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D8C-3FD7-4B6C-9250-CDE25F47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2E3-F444-423C-B449-B202B10B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B03-E25E-4E12-92DD-455C2399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2BB-8FA4-416C-930D-B483D2F4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1E8-17CD-44D7-A4E3-4FAA286C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084-804F-4A28-B9B0-6940A3FE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770-D3DB-4505-BF72-41A97A7A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428-A19B-482E-B8AD-04983BB9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1377-609E-4033-9DBA-103035D069FF}" type="datetime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A703-E48C-4ECF-92D0-217E3B776FB3}" type="slidenum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stale elementy strona edytowalna.jpg"/>
          <p:cNvPicPr/>
          <p:nvPr/>
        </p:nvPicPr>
        <p:blipFill>
          <a:blip r:embed="rId2"/>
          <a:stretch/>
        </p:blipFill>
        <p:spPr>
          <a:xfrm>
            <a:off x="0" y="1440"/>
            <a:ext cx="10693440" cy="7558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70360" y="6999120"/>
            <a:ext cx="249588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2287-8F34-482F-9082-30ABBCB13856}" type="datetime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32920" y="6999120"/>
            <a:ext cx="338796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Tytuł prezentacj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- Ostr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274760" y="1686600"/>
            <a:ext cx="868032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Bookman Old Style"/>
              </a:rPr>
              <a:t>                             </a:t>
            </a:r>
            <a:r>
              <a:rPr b="1" lang="pl-PL" sz="2100" spc="-1" strike="noStrike" u="sng">
                <a:solidFill>
                  <a:srgbClr val="0000ff"/>
                </a:solidFill>
                <a:uFillTx/>
                <a:latin typeface="Arial"/>
              </a:rPr>
              <a:t>Zajęcia treningowe nr 3 - Kadra Polski U-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Dzień / godzina:         13.04.2013 / 17: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iczba zawodników:   14 + 2 bramkarz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Miejsce:                      boisko piłkarskie – sztucz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Sprzęt:                        piłki, kamizelki, talerzy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Bramkarze: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         20 min. – zajęcia indywidualn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                                   –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R. Muchińs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631960" y="1779480"/>
            <a:ext cx="542952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47" name="Łącznik prosty ze strzałką 2"/>
          <p:cNvCxnSpPr/>
          <p:nvPr/>
        </p:nvCxnSpPr>
        <p:spPr>
          <a:xfrm flipV="1">
            <a:off x="6210360" y="3779280"/>
            <a:ext cx="50544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Łącznik prosty ze strzałką 5"/>
          <p:cNvCxnSpPr/>
          <p:nvPr/>
        </p:nvCxnSpPr>
        <p:spPr>
          <a:xfrm flipH="1" flipV="1">
            <a:off x="3833280" y="3708000"/>
            <a:ext cx="20901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pole tekstowe 6"/>
          <p:cNvSpPr/>
          <p:nvPr/>
        </p:nvSpPr>
        <p:spPr>
          <a:xfrm>
            <a:off x="6381720" y="426420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ole tekstowe 7"/>
          <p:cNvSpPr/>
          <p:nvPr/>
        </p:nvSpPr>
        <p:spPr>
          <a:xfrm>
            <a:off x="5204880" y="45007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1346040" y="1351800"/>
            <a:ext cx="807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Podania + ćw. ogólnorozwojowe (różne formy podań piłk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346040" y="1779480"/>
            <a:ext cx="80726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1346040" y="1351800"/>
            <a:ext cx="807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Gra pomocnicza ,,Dziadek 5x2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274760" y="1708200"/>
            <a:ext cx="814392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03520" y="1779480"/>
            <a:ext cx="4429080" cy="521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6132600" y="1922400"/>
            <a:ext cx="1500120" cy="121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6132600" y="3137040"/>
            <a:ext cx="1500120" cy="12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6132600" y="442440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5"/>
          <a:stretch/>
        </p:blipFill>
        <p:spPr>
          <a:xfrm>
            <a:off x="6132600" y="5710320"/>
            <a:ext cx="1500120" cy="117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6"/>
          <a:stretch/>
        </p:blipFill>
        <p:spPr>
          <a:xfrm>
            <a:off x="7632720" y="3137040"/>
            <a:ext cx="1500120" cy="128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7"/>
          <a:stretch/>
        </p:blipFill>
        <p:spPr>
          <a:xfrm>
            <a:off x="7632720" y="4424400"/>
            <a:ext cx="1500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489040" y="1779480"/>
            <a:ext cx="550080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07" name="Łącznik prosty ze strzałką 2"/>
          <p:cNvCxnSpPr/>
          <p:nvPr/>
        </p:nvCxnSpPr>
        <p:spPr>
          <a:xfrm flipH="1" flipV="1">
            <a:off x="5490720" y="3997080"/>
            <a:ext cx="165672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Łącznik prosty ze strzałką 4"/>
          <p:cNvCxnSpPr/>
          <p:nvPr/>
        </p:nvCxnSpPr>
        <p:spPr>
          <a:xfrm flipH="1" flipV="1">
            <a:off x="7002000" y="3997080"/>
            <a:ext cx="28944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pole tekstowe 5"/>
          <p:cNvSpPr/>
          <p:nvPr/>
        </p:nvSpPr>
        <p:spPr>
          <a:xfrm>
            <a:off x="6320160" y="4789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ole tekstowe 6"/>
          <p:cNvSpPr/>
          <p:nvPr/>
        </p:nvSpPr>
        <p:spPr>
          <a:xfrm>
            <a:off x="7220160" y="438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631960" y="1779480"/>
            <a:ext cx="535788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15" name="Łącznik prosty ze strzałką 2"/>
          <p:cNvCxnSpPr/>
          <p:nvPr/>
        </p:nvCxnSpPr>
        <p:spPr>
          <a:xfrm flipV="1">
            <a:off x="3618000" y="4140000"/>
            <a:ext cx="14421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Łącznik prosty ze strzałką 4"/>
          <p:cNvCxnSpPr/>
          <p:nvPr/>
        </p:nvCxnSpPr>
        <p:spPr>
          <a:xfrm flipV="1">
            <a:off x="3259080" y="3924000"/>
            <a:ext cx="21672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pole tekstowe 7"/>
          <p:cNvSpPr/>
          <p:nvPr/>
        </p:nvSpPr>
        <p:spPr>
          <a:xfrm>
            <a:off x="4070520" y="4938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8"/>
          <p:cNvSpPr/>
          <p:nvPr/>
        </p:nvSpPr>
        <p:spPr>
          <a:xfrm>
            <a:off x="3009960" y="4551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703600" y="1779480"/>
            <a:ext cx="528624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23" name="Łącznik prosty ze strzałką 2"/>
          <p:cNvCxnSpPr/>
          <p:nvPr/>
        </p:nvCxnSpPr>
        <p:spPr>
          <a:xfrm flipH="1" flipV="1">
            <a:off x="5346360" y="4284360"/>
            <a:ext cx="5054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Łącznik prosty ze strzałką 4"/>
          <p:cNvCxnSpPr/>
          <p:nvPr/>
        </p:nvCxnSpPr>
        <p:spPr>
          <a:xfrm flipV="1">
            <a:off x="6283440" y="3997080"/>
            <a:ext cx="504000" cy="158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5" name="pole tekstowe 5"/>
          <p:cNvSpPr/>
          <p:nvPr/>
        </p:nvSpPr>
        <p:spPr>
          <a:xfrm>
            <a:off x="5348520" y="522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ole tekstowe 6"/>
          <p:cNvSpPr/>
          <p:nvPr/>
        </p:nvSpPr>
        <p:spPr>
          <a:xfrm>
            <a:off x="644220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631960" y="1779480"/>
            <a:ext cx="550080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31" name="Łącznik prosty ze strzałką 2"/>
          <p:cNvCxnSpPr/>
          <p:nvPr/>
        </p:nvCxnSpPr>
        <p:spPr>
          <a:xfrm flipV="1">
            <a:off x="4914720" y="4284360"/>
            <a:ext cx="43236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pole tekstowe 4"/>
          <p:cNvSpPr/>
          <p:nvPr/>
        </p:nvSpPr>
        <p:spPr>
          <a:xfrm>
            <a:off x="5132520" y="4897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Łącznik prosty ze strzałką 6"/>
          <p:cNvCxnSpPr/>
          <p:nvPr/>
        </p:nvCxnSpPr>
        <p:spPr>
          <a:xfrm flipH="1" flipV="1">
            <a:off x="3762000" y="3997080"/>
            <a:ext cx="79272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pole tekstowe 7"/>
          <p:cNvSpPr/>
          <p:nvPr/>
        </p:nvSpPr>
        <p:spPr>
          <a:xfrm>
            <a:off x="3980160" y="475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1346040" y="1351800"/>
            <a:ext cx="8001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Arial"/>
              </a:rPr>
              <a:t>Schemat rozegrania akcji wg. kolejności poda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774880" y="1779480"/>
            <a:ext cx="5143680" cy="5216760"/>
          </a:xfrm>
          <a:prstGeom prst="rect">
            <a:avLst/>
          </a:prstGeom>
          <a:ln w="0">
            <a:noFill/>
          </a:ln>
        </p:spPr>
      </p:pic>
      <p:cxnSp>
        <p:nvCxnSpPr>
          <p:cNvPr id="139" name="Łącznik prosty ze strzałką 2"/>
          <p:cNvCxnSpPr/>
          <p:nvPr/>
        </p:nvCxnSpPr>
        <p:spPr>
          <a:xfrm flipH="1" flipV="1">
            <a:off x="3906360" y="3996720"/>
            <a:ext cx="5040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Łącznik prosty ze strzałką 4"/>
          <p:cNvCxnSpPr/>
          <p:nvPr/>
        </p:nvCxnSpPr>
        <p:spPr>
          <a:xfrm flipV="1">
            <a:off x="4841640" y="3852000"/>
            <a:ext cx="18738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pole tekstowe 5"/>
          <p:cNvSpPr/>
          <p:nvPr/>
        </p:nvSpPr>
        <p:spPr>
          <a:xfrm>
            <a:off x="3928320" y="437040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6"/>
          <p:cNvSpPr/>
          <p:nvPr/>
        </p:nvSpPr>
        <p:spPr>
          <a:xfrm>
            <a:off x="5276880" y="45007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10:19Z</dcterms:created>
  <dc:creator>Kinga</dc:creator>
  <dc:description/>
  <dc:language>en-US</dc:language>
  <cp:lastModifiedBy>dell</cp:lastModifiedBy>
  <dcterms:modified xsi:type="dcterms:W3CDTF">2013-04-24T10:32:14Z</dcterms:modified>
  <cp:revision>145</cp:revision>
  <dc:subject/>
  <dc:title>Slajd 1</dc:title>
</cp:coreProperties>
</file>