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10691813" cy="7559675"/>
  <p:notesSz cx="9831388" cy="6664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C1F9-7260-41F2-8979-CA39A3B49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960" y="437076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6AFD-DEA0-4F0E-B648-9E4E54042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624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A64A-7FFE-4137-9862-35634CDA5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864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4268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496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864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4268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996A-1A2B-4190-98B6-85DC8AF0E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4960" y="303120"/>
            <a:ext cx="962352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69BA-67FD-4230-A25B-540819B54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6624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4960" y="437076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6624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8864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04268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496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8864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04268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3A38-F6E4-451D-940E-4605ABD12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F49C-606B-4AFB-95EB-F1C6DC247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0BCB-AD94-49C2-B337-2BA0ADC44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4960" y="303120"/>
            <a:ext cx="962352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23D2-51CD-4D7F-90BF-1BB2C068F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4378-A50F-4C52-BCFD-55C5D668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624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2048-B67C-4078-AB85-ADCEFDE5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A779-740C-4B10-93DA-DE6DD124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31104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44520" indent="-2491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2473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39920" indent="-2491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39920" indent="-2491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39920" indent="-2491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4960" y="6885000"/>
            <a:ext cx="2495520" cy="5256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8663C-EE66-48A4-8E4D-B8DF8B43A9BB}" type="datetime">
              <a:rPr b="0" lang="pl-PL" sz="15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2920" y="6885000"/>
            <a:ext cx="3387600" cy="5256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62960" y="6885000"/>
            <a:ext cx="2495520" cy="5256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5D207-D000-4230-A534-DDA754F56B07}" type="slidenum">
              <a:rPr b="0" lang="pl-PL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az 6" descr="stale elementy strona edytowalna.jpg"/>
          <p:cNvPicPr/>
          <p:nvPr/>
        </p:nvPicPr>
        <p:blipFill>
          <a:blip r:embed="rId2"/>
          <a:stretch/>
        </p:blipFill>
        <p:spPr>
          <a:xfrm>
            <a:off x="0" y="1440"/>
            <a:ext cx="10693440" cy="7558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31104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44520" indent="-2491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2473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39920" indent="-2491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39920" indent="-2491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39920" indent="-2491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8370360" y="6999120"/>
            <a:ext cx="2495880" cy="5256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A9F35-3CBF-42CC-B926-793D753A747D}" type="datetime">
              <a:rPr b="0" lang="pl-PL" sz="15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32920" y="6999120"/>
            <a:ext cx="3387960" cy="5256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Times New Roman"/>
              </a:rPr>
              <a:t>Tytuł prezentacj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ymbol zastępczy stopki 2"/>
          <p:cNvSpPr/>
          <p:nvPr/>
        </p:nvSpPr>
        <p:spPr>
          <a:xfrm>
            <a:off x="703440" y="6996240"/>
            <a:ext cx="9286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i="1" lang="pl-PL" sz="1400" spc="-1" strike="noStrike">
                <a:solidFill>
                  <a:srgbClr val="0000ff"/>
                </a:solidFill>
                <a:latin typeface="Bookman Old Style"/>
              </a:rPr>
              <a:t>Konsultacja Reprezentacji Polski U-15 –  Polska – Walia  – 12-20.04.2013 Ostró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1560600" y="493560"/>
            <a:ext cx="8245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pl-PL" sz="2400" spc="-1" strike="noStrike">
                <a:solidFill>
                  <a:srgbClr val="cd0000"/>
                </a:solidFill>
                <a:latin typeface="Bookman Old Style"/>
              </a:rPr>
              <a:t>Zajęcia treningowe - Ostró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"/>
          <p:cNvSpPr/>
          <p:nvPr/>
        </p:nvSpPr>
        <p:spPr>
          <a:xfrm>
            <a:off x="1274760" y="1805400"/>
            <a:ext cx="868032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Bookman Old Style"/>
              </a:rPr>
              <a:t>                             </a:t>
            </a:r>
            <a:r>
              <a:rPr b="1" lang="pl-PL" sz="2100" spc="-1" strike="noStrike" u="sng">
                <a:solidFill>
                  <a:srgbClr val="0000ff"/>
                </a:solidFill>
                <a:uFillTx/>
                <a:latin typeface="Arial"/>
              </a:rPr>
              <a:t>Zajęcia treningowe nr 2 - Kadra Polski U-15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Dzień / godzina:         13.04.2013 / 11:0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Liczba zawodników:   18 + 2 bramkarz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Miejsce:                      boisko piłkarskie – sztuczn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Sprzęt:                        piłki, kamizelki, talerzyk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Bramkarze: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           40 min. – zajęcia indywidualn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                                     – 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TR. Muchińsk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6"/>
          <p:cNvSpPr/>
          <p:nvPr/>
        </p:nvSpPr>
        <p:spPr>
          <a:xfrm>
            <a:off x="1560600" y="493560"/>
            <a:ext cx="8245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pl-PL" sz="2400" spc="-1" strike="noStrike">
                <a:solidFill>
                  <a:srgbClr val="cd0000"/>
                </a:solidFill>
                <a:latin typeface="Bookman Old Style"/>
              </a:rPr>
              <a:t>Zajęcia treningowe – 13.04.2013, godz. 11: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"/>
          <p:cNvSpPr/>
          <p:nvPr/>
        </p:nvSpPr>
        <p:spPr>
          <a:xfrm>
            <a:off x="1274760" y="1143720"/>
            <a:ext cx="8061480" cy="18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Podania w zespołach + żonglerka zadaniow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2846520" y="1851120"/>
            <a:ext cx="4929120" cy="5095800"/>
          </a:xfrm>
          <a:prstGeom prst="rect">
            <a:avLst/>
          </a:prstGeom>
          <a:ln w="0">
            <a:noFill/>
          </a:ln>
        </p:spPr>
      </p:pic>
      <p:sp>
        <p:nvSpPr>
          <p:cNvPr id="88" name="pole tekstowe 2"/>
          <p:cNvSpPr/>
          <p:nvPr/>
        </p:nvSpPr>
        <p:spPr>
          <a:xfrm>
            <a:off x="2850840" y="2824200"/>
            <a:ext cx="99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ZESPÓŁ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ole tekstowe 6"/>
          <p:cNvSpPr/>
          <p:nvPr/>
        </p:nvSpPr>
        <p:spPr>
          <a:xfrm>
            <a:off x="2849400" y="4140360"/>
            <a:ext cx="10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ZESPÓŁ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ole tekstowe 7"/>
          <p:cNvSpPr/>
          <p:nvPr/>
        </p:nvSpPr>
        <p:spPr>
          <a:xfrm>
            <a:off x="2850480" y="5508720"/>
            <a:ext cx="109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ZESPÓŁ I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ymbol zastępczy stopki 2"/>
          <p:cNvSpPr/>
          <p:nvPr/>
        </p:nvSpPr>
        <p:spPr>
          <a:xfrm>
            <a:off x="703440" y="6996240"/>
            <a:ext cx="9286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i="1" lang="pl-PL" sz="1400" spc="-1" strike="noStrike">
                <a:solidFill>
                  <a:srgbClr val="0000ff"/>
                </a:solidFill>
                <a:latin typeface="Bookman Old Style"/>
              </a:rPr>
              <a:t>Konsultacja Reprezentacji Polski U-15 –  Polska – Walia  – 12-20.04.2013 Ostró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6"/>
          <p:cNvSpPr/>
          <p:nvPr/>
        </p:nvSpPr>
        <p:spPr>
          <a:xfrm>
            <a:off x="1560600" y="493560"/>
            <a:ext cx="8245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pl-PL" sz="2400" spc="-1" strike="noStrike">
                <a:solidFill>
                  <a:srgbClr val="cd0000"/>
                </a:solidFill>
                <a:latin typeface="Bookman Old Style"/>
              </a:rPr>
              <a:t>Zajęcia treningowe – 13.04.2013, godz. 11: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"/>
          <p:cNvSpPr/>
          <p:nvPr/>
        </p:nvSpPr>
        <p:spPr>
          <a:xfrm>
            <a:off x="1274760" y="1143720"/>
            <a:ext cx="8572680" cy="18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Gra zadaniowa 6x6+6 na utrzymanie z wyjściem z pressing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2846520" y="1779480"/>
            <a:ext cx="4929120" cy="5145120"/>
          </a:xfrm>
          <a:prstGeom prst="rect">
            <a:avLst/>
          </a:prstGeom>
          <a:ln w="0">
            <a:noFill/>
          </a:ln>
        </p:spPr>
      </p:pic>
      <p:sp>
        <p:nvSpPr>
          <p:cNvPr id="95" name="Symbol zastępczy stopki 2"/>
          <p:cNvSpPr/>
          <p:nvPr/>
        </p:nvSpPr>
        <p:spPr>
          <a:xfrm>
            <a:off x="703440" y="6996240"/>
            <a:ext cx="9286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i="1" lang="pl-PL" sz="1400" spc="-1" strike="noStrike">
                <a:solidFill>
                  <a:srgbClr val="0000ff"/>
                </a:solidFill>
                <a:latin typeface="Bookman Old Style"/>
              </a:rPr>
              <a:t>Konsultacja Reprezentacji Polski U-15 –  Polska – Walia  – 12-20.04.2013 Ostró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4" descr=""/>
          <p:cNvPicPr/>
          <p:nvPr/>
        </p:nvPicPr>
        <p:blipFill>
          <a:blip r:embed="rId1"/>
          <a:stretch/>
        </p:blipFill>
        <p:spPr>
          <a:xfrm>
            <a:off x="1060560" y="1708200"/>
            <a:ext cx="8572320" cy="528804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1"/>
          <p:cNvSpPr/>
          <p:nvPr/>
        </p:nvSpPr>
        <p:spPr>
          <a:xfrm>
            <a:off x="1274760" y="566280"/>
            <a:ext cx="857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Gra zadaniowa 6 x 6 + 6N + 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ymbol zastępczy stopki 2"/>
          <p:cNvSpPr/>
          <p:nvPr/>
        </p:nvSpPr>
        <p:spPr>
          <a:xfrm>
            <a:off x="703440" y="6996240"/>
            <a:ext cx="9286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i="1" lang="pl-PL" sz="1400" spc="-1" strike="noStrike">
                <a:solidFill>
                  <a:srgbClr val="0000ff"/>
                </a:solidFill>
                <a:latin typeface="Bookman Old Style"/>
              </a:rPr>
              <a:t>Konsultacja Reprezentacji Polski U-15 –  Polska – Walia  – 12-20.04.2013 Ostró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"/>
          <p:cNvSpPr/>
          <p:nvPr/>
        </p:nvSpPr>
        <p:spPr>
          <a:xfrm>
            <a:off x="2106720" y="37440"/>
            <a:ext cx="61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Gra szkolna 9 x 9 + 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ymbol zastępczy stopki 2"/>
          <p:cNvSpPr/>
          <p:nvPr/>
        </p:nvSpPr>
        <p:spPr>
          <a:xfrm>
            <a:off x="703440" y="6996240"/>
            <a:ext cx="9286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i="1" lang="pl-PL" sz="1400" spc="-1" strike="noStrike">
                <a:solidFill>
                  <a:srgbClr val="0000ff"/>
                </a:solidFill>
                <a:latin typeface="Bookman Old Style"/>
              </a:rPr>
              <a:t>Konsultacja Reprezentacji Polski U-15 –  Polska – Walia  – 12-20.04.2013 Ostró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4" descr=""/>
          <p:cNvPicPr/>
          <p:nvPr/>
        </p:nvPicPr>
        <p:blipFill>
          <a:blip r:embed="rId1"/>
          <a:stretch/>
        </p:blipFill>
        <p:spPr>
          <a:xfrm>
            <a:off x="1674720" y="642960"/>
            <a:ext cx="7392960" cy="63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16:10:19Z</dcterms:created>
  <dc:creator>Kinga</dc:creator>
  <dc:description/>
  <dc:language>en-US</dc:language>
  <cp:lastModifiedBy>dell</cp:lastModifiedBy>
  <dcterms:modified xsi:type="dcterms:W3CDTF">2013-04-24T10:26:32Z</dcterms:modified>
  <cp:revision>136</cp:revision>
  <dc:subject/>
  <dc:title>Slajd 1</dc:title>
</cp:coreProperties>
</file>