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91813" cy="7559675"/>
  <p:notesSz cx="9831388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2A3-749B-48E8-BD56-18FE86BA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AEB-DD1D-4123-86B7-6CB1F72F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DAE-8CF2-4145-BDA7-67080A8C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B9F-29FD-49B0-BCA7-E327E493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609-E795-489C-B09A-46793826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87C-1D9C-472E-AA3E-A8BB9284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925-1458-4008-B558-347EC11B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0A0-C5FA-4E9A-A14A-0834A6A6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15A-1B63-46CB-AF17-17CFB04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A86-5E3E-4EEB-9E4B-15F3D8DE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FC7-3B29-497C-8D6C-DE9D5F2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EEA-7364-4CA9-B02B-B689500D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02F9-42C8-450D-B2ED-38BAC4AF6EA1}" type="datetime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4432-A7F0-4DE4-96E7-0BB140A5D5C9}" type="slidenum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stale elementy strona edytowalna.jpg"/>
          <p:cNvPicPr/>
          <p:nvPr/>
        </p:nvPicPr>
        <p:blipFill>
          <a:blip r:embed="rId2"/>
          <a:stretch/>
        </p:blipFill>
        <p:spPr>
          <a:xfrm>
            <a:off x="0" y="1440"/>
            <a:ext cx="10693440" cy="7558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70360" y="6999120"/>
            <a:ext cx="249588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3198-06A4-4475-94D0-E4DD07EE22D3}" type="datetime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32920" y="6999120"/>
            <a:ext cx="338796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Tytuł prezentacj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- Ostr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274760" y="1805400"/>
            <a:ext cx="86803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Bookman Old Style"/>
              </a:rPr>
              <a:t>                             </a:t>
            </a:r>
            <a:r>
              <a:rPr b="1" lang="pl-PL" sz="2100" spc="-1" strike="noStrike" u="sng">
                <a:solidFill>
                  <a:srgbClr val="0000ff"/>
                </a:solidFill>
                <a:uFillTx/>
                <a:latin typeface="Arial"/>
              </a:rPr>
              <a:t>Zajęcia treningowe nr 2 - Kadra Polski U-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zień / godzina:         13.04.2013 / 11: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iczba zawodników:   18 + 2 bramkarz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Miejsce:                      boisko piłkarskie – sztucz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Sprzęt:                        piłki, kamizelki, talerzy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Bramkarze: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         40 min. – zajęcia indywidualn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                                   –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R. Muchińs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1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274760" y="1143720"/>
            <a:ext cx="80614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odania w zespołach + żonglerka zadan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46520" y="1851120"/>
            <a:ext cx="4929120" cy="509580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2"/>
          <p:cNvSpPr/>
          <p:nvPr/>
        </p:nvSpPr>
        <p:spPr>
          <a:xfrm>
            <a:off x="2850840" y="28242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ESPÓŁ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ole tekstowe 6"/>
          <p:cNvSpPr/>
          <p:nvPr/>
        </p:nvSpPr>
        <p:spPr>
          <a:xfrm>
            <a:off x="2849400" y="41403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ESPÓŁ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7"/>
          <p:cNvSpPr/>
          <p:nvPr/>
        </p:nvSpPr>
        <p:spPr>
          <a:xfrm>
            <a:off x="2850480" y="55087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ESPÓŁ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1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274760" y="1143720"/>
            <a:ext cx="85726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ra zadaniowa 6x6+6 na utrzymanie z wyjściem z pressin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846520" y="1779480"/>
            <a:ext cx="4929120" cy="5145120"/>
          </a:xfrm>
          <a:prstGeom prst="rect">
            <a:avLst/>
          </a:prstGeom>
          <a:ln w="0">
            <a:noFill/>
          </a:ln>
        </p:spPr>
      </p:pic>
      <p:sp>
        <p:nvSpPr>
          <p:cNvPr id="95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4" descr=""/>
          <p:cNvPicPr/>
          <p:nvPr/>
        </p:nvPicPr>
        <p:blipFill>
          <a:blip r:embed="rId1"/>
          <a:stretch/>
        </p:blipFill>
        <p:spPr>
          <a:xfrm>
            <a:off x="1060560" y="1708200"/>
            <a:ext cx="8572320" cy="52880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1274760" y="56628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ra zadaniowa 6 x 6 + 6N + 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106720" y="374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ra szkolna 9 x 9 + 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674720" y="642960"/>
            <a:ext cx="7392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10:19Z</dcterms:created>
  <dc:creator>Kinga</dc:creator>
  <dc:description/>
  <dc:language>en-US</dc:language>
  <cp:lastModifiedBy>dell</cp:lastModifiedBy>
  <dcterms:modified xsi:type="dcterms:W3CDTF">2013-04-24T10:26:32Z</dcterms:modified>
  <cp:revision>136</cp:revision>
  <dc:subject/>
  <dc:title>Slajd 1</dc:title>
</cp:coreProperties>
</file>